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19386"/>
        <c:axId val="75624215"/>
      </c:barChart>
      <c:catAx>
        <c:axId val="65619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24215"/>
        <c:crosses val="autoZero"/>
        <c:auto val="1"/>
        <c:lblAlgn val="ctr"/>
        <c:lblOffset val="100"/>
        <c:noMultiLvlLbl val="0"/>
      </c:catAx>
      <c:valAx>
        <c:axId val="75624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19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8783-FA6D-401F-BA55-9B590E6C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559-EAB6-4957-A584-1D859CDC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EA7-ADD4-415C-8842-AE500362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5A3-20A0-4511-A1DE-46036946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96C-F172-409A-B78F-5632C58B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1A3-7530-4D84-A59D-52011F62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7864-9FCE-493E-BB17-543F469E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6901-134E-407D-AD4F-EC593D5F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CD5-0697-4907-ADB3-8E139720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5BEA-C4B7-465C-B86A-C939D061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2C0D-3D4B-4BFD-8448-6D21627E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5FE-5468-463C-B845-FDC32DA2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AEADE-0D2C-40C4-B955-1BF2796DE2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