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862864"/>
        <c:axId val="23746689"/>
      </c:barChart>
      <c:catAx>
        <c:axId val="868628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46689"/>
        <c:crosses val="autoZero"/>
        <c:auto val="1"/>
        <c:lblAlgn val="ctr"/>
        <c:lblOffset val="100"/>
        <c:noMultiLvlLbl val="0"/>
      </c:catAx>
      <c:valAx>
        <c:axId val="237466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628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0A94-90AA-4574-AAA9-BD0784DF1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FD39-0399-4054-8428-85F3262B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0237-EBCA-4C89-BDA6-F85BB69A2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75EE-DDD9-4DB7-BF8B-C946E705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46AE-F3D9-4E45-B8BF-E8447329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F1BE-E30E-4DD0-9973-1F0682B8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57A8-7E42-48F3-87BB-C5982412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8C96-DA0F-4850-B08E-88FFE122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A71A-ACA6-47DC-9F1B-72167A4E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5F39-2489-4AE7-A819-6EA4BE48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A678-B488-4461-884E-D591AD1F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A98C-44C5-4276-880C-A09B3BB1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8C375-E7B7-4678-BF47-DDAB3DB6F1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