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964556"/>
        <c:axId val="18987988"/>
      </c:barChart>
      <c:catAx>
        <c:axId val="15964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87988"/>
        <c:crosses val="autoZero"/>
        <c:auto val="1"/>
        <c:lblAlgn val="ctr"/>
        <c:lblOffset val="100"/>
        <c:noMultiLvlLbl val="0"/>
      </c:catAx>
      <c:valAx>
        <c:axId val="189879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64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193-5B2F-4486-AC37-C128F81A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9C5-25DD-43FF-8211-0BB4CE84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0F02-5051-426D-BBE3-4FC5079D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C1D4-0E38-4DF2-9E41-7F7014B7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489-F809-4F81-AE81-236FDAC2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D66-81A2-4389-8459-03148FCD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829-07F4-409F-92B7-E37750D7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EDB-0BF6-429C-8870-0706B384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EC5-4205-4028-A33D-73B3B64D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617-AC16-4B3B-9160-CB494EDD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EB7-5075-4B5F-9363-0F8CB68B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94A-3697-4F58-A6FD-BEFFE178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CEA5E-50BF-4890-B45C-35A1A02AC3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