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771903"/>
        <c:axId val="26485599"/>
      </c:barChart>
      <c:catAx>
        <c:axId val="737719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85599"/>
        <c:crosses val="autoZero"/>
        <c:auto val="1"/>
        <c:lblAlgn val="ctr"/>
        <c:lblOffset val="100"/>
        <c:noMultiLvlLbl val="0"/>
      </c:catAx>
      <c:valAx>
        <c:axId val="264855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719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33DA-48AE-4F75-A672-F050E94B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3148-0B0D-49AA-8FFA-9BD1B949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8FFE-9D16-4BD4-8A76-A831CE32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2EB7-33FB-4014-8257-DF32B21A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CB74-EB7E-43EB-892D-76582C9D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8AAC-C7CF-4742-939D-F42B58D7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5273-F3CA-49F6-AA81-E4212342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140F-9C03-4838-8E07-12DF0B2D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3EE4-4A9F-4DBA-89F7-ADB22BFC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096A-915B-42F6-8450-CA765CD8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0AC2-E150-4372-B7E3-DD5E01FC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48AB-1409-4295-87B8-89DE87F1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59349-B09E-49AB-9A67-BF6CD2ADF6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