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95176"/>
        <c:axId val="1563027"/>
      </c:barChart>
      <c:catAx>
        <c:axId val="80595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3027"/>
        <c:crosses val="autoZero"/>
        <c:auto val="1"/>
        <c:lblAlgn val="ctr"/>
        <c:lblOffset val="100"/>
        <c:noMultiLvlLbl val="0"/>
      </c:catAx>
      <c:valAx>
        <c:axId val="1563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95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E89-4C70-40B8-AE37-DC22E2DA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386-C30A-40A3-9F5B-27B14AF1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012-B924-462F-A8D7-746F5877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49A-726F-48D4-9CEB-1E87E858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D4F-C749-486B-87C6-12247EAA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5E6-23DF-45C5-B298-B949418B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32A-9206-42A8-B444-5205230A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803-43E9-4C79-8F11-F8AC3E80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62E-3A65-491A-BD76-38DC4FCB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1CC-4A95-4A57-BE94-9AF1EB63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59F-D994-49FE-8883-6135B63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2BB-4E54-429A-A833-53EB52B8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E0E01-602E-4978-988B-F8E101C99C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