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8067"/>
        <c:axId val="24557764"/>
      </c:barChart>
      <c:catAx>
        <c:axId val="9738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7764"/>
        <c:crosses val="autoZero"/>
        <c:auto val="1"/>
        <c:lblAlgn val="ctr"/>
        <c:lblOffset val="100"/>
        <c:noMultiLvlLbl val="0"/>
      </c:catAx>
      <c:valAx>
        <c:axId val="24557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8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150-076D-447A-8C40-908617D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D77-2639-48A5-8BAC-38927535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AE2-7CB5-4008-9286-3F872947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5EF-CA15-4365-801E-7BADA01C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969-306B-4F25-BB4B-9329813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EE2-760D-447A-94CD-A0B9BAB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B67-FAA0-498E-9E22-22A89630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207-6862-461E-B53C-8689B51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09A-A625-4B55-9AA7-2A2D88F7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F27-33D9-41DB-93C5-A9D52BF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5AD-3AE3-408E-9613-079E482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E28-9D69-4648-95BE-70D1FCA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86F77-A0F9-48B0-9EAF-A9CD86CA9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