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media/image3.png" ContentType="image/png"/>
  <Override PartName="/ppt/media/image4.png" ContentType="image/png"/>
  <Override PartName="/ppt/media/image5.png" ContentType="image/png"/>
  <Override PartName="/ppt/media/image6.png" ContentType="image/png"/>
  <Override PartName="/ppt/media/image7.png" ContentType="image/png"/>
  <Override PartName="/ppt/media/image8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29.xml" ContentType="application/vnd.openxmlformats-officedocument.presentationml.slide+xml"/>
  <Override PartName="/ppt/slides/slide28.xml" ContentType="application/vnd.openxmlformats-officedocument.presentationml.slide+xml"/>
  <Override PartName="/ppt/slides/slide27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8.xml" ContentType="application/vnd.openxmlformats-officedocument.presentationml.slide+xml"/>
  <Override PartName="/ppt/slides/slide11.xml" ContentType="application/vnd.openxmlformats-officedocument.presentationml.slide+xml"/>
  <Override PartName="/ppt/slides/slide9.xml" ContentType="application/vnd.openxmlformats-officedocument.presentationml.slide+xml"/>
  <Override PartName="/ppt/slides/slide12.xml" ContentType="application/vnd.openxmlformats-officedocument.presentationml.slide+xml"/>
  <Override PartName="/ppt/slides/slide13.xml" ContentType="application/vnd.openxmlformats-officedocument.presentationml.slide+xml"/>
  <Override PartName="/ppt/slides/slide4.xml" ContentType="application/vnd.openxmlformats-officedocument.presentationml.slide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31.xml.rels" ContentType="application/vnd.openxmlformats-package.relationships+xml"/>
  <Override PartName="/ppt/slides/_rels/slide16.xml.rels" ContentType="application/vnd.openxmlformats-package.relationships+xml"/>
  <Override PartName="/ppt/slides/_rels/slide32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21.xml.rels" ContentType="application/vnd.openxmlformats-package.relationships+xml"/>
  <Override PartName="/ppt/slides/_rels/slide8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7.xml.rels" ContentType="application/vnd.openxmlformats-package.relationships+xml"/>
  <Override PartName="/ppt/slides/_rels/slide20.xml.rels" ContentType="application/vnd.openxmlformats-package.relationships+xml"/>
  <Override PartName="/ppt/slides/_rels/slide1.xml.rels" ContentType="application/vnd.openxmlformats-package.relationships+xml"/>
  <Override PartName="/ppt/slides/_rels/slide11.xml.rels" ContentType="application/vnd.openxmlformats-package.relationships+xml"/>
  <Override PartName="/ppt/slides/_rels/slide26.xml.rels" ContentType="application/vnd.openxmlformats-package.relationships+xml"/>
  <Override PartName="/ppt/slides/_rels/slide17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9.xml.rels" ContentType="application/vnd.openxmlformats-package.relationships+xml"/>
  <Override PartName="/ppt/slides/_rels/slide28.xml.rels" ContentType="application/vnd.openxmlformats-package.relationships+xml"/>
  <Override PartName="/ppt/slides/_rels/slide22.xml.rels" ContentType="application/vnd.openxmlformats-package.relationships+xml"/>
  <Override PartName="/ppt/slides/_rels/slide29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23.xml.rels" ContentType="application/vnd.openxmlformats-package.relationships+xml"/>
  <Override PartName="/ppt/slides/slide30.xml" ContentType="application/vnd.openxmlformats-officedocument.presentationml.slide+xml"/>
  <Override PartName="/ppt/slides/slide5.xml" ContentType="application/vnd.openxmlformats-officedocument.presentationml.slide+xml"/>
  <Override PartName="/ppt/slides/slide31.xml" ContentType="application/vnd.openxmlformats-officedocument.presentationml.slide+xml"/>
  <Override PartName="/ppt/slides/slide6.xml" ContentType="application/vnd.openxmlformats-officedocument.presentationml.slide+xml"/>
  <Override PartName="/ppt/slides/slide32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15.xml" ContentType="application/vnd.openxmlformats-officedocument.presentationml.slide+xml"/>
  <Override PartName="/ppt/slides/slide16.xml" ContentType="application/vnd.openxmlformats-officedocument.presentationml.slide+xml"/>
  <Override PartName="/ppt/slides/slide17.xml" ContentType="application/vnd.openxmlformats-officedocument.presentationml.slide+xml"/>
  <Override PartName="/ppt/slides/slide18.xml" ContentType="application/vnd.openxmlformats-officedocument.presentationml.slide+xml"/>
  <Override PartName="/ppt/slides/slide20.xml" ContentType="application/vnd.openxmlformats-officedocument.presentationml.slide+xml"/>
  <Override PartName="/ppt/slides/slide19.xml" ContentType="application/vnd.openxmlformats-officedocument.presentationml.slide+xml"/>
  <Override PartName="/ppt/slides/slide21.xml" ContentType="application/vnd.openxmlformats-officedocument.presentationml.slide+xml"/>
  <Override PartName="/ppt/slides/slide22.xml" ContentType="application/vnd.openxmlformats-officedocument.presentationml.slide+xml"/>
  <Override PartName="/ppt/slides/slide23.xml" ContentType="application/vnd.openxmlformats-officedocument.presentationml.slide+xml"/>
  <Override PartName="/ppt/slides/slide24.xml" ContentType="application/vnd.openxmlformats-officedocument.presentationml.slide+xml"/>
  <Override PartName="/ppt/slides/slide25.xml" ContentType="application/vnd.openxmlformats-officedocument.presentationml.slide+xml"/>
  <Override PartName="/ppt/slides/slide2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33667C-1A8E-410F-AF5A-0E83228ADDC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1B573C-C408-4F7F-A4C1-4381C964CA6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043905-CBF3-4B5F-87D9-5B16A5E9877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1FD09E-386A-44A9-9CBB-C23F7E7BC3B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60EF4C-E03D-44D7-BBF0-BBBCDE524FF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21056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3754440" y="403812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68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21056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3754440" y="4197240"/>
            <a:ext cx="156996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2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FAB2B9-7206-473B-834F-80566DCC5C1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346F23-6811-43C1-B08E-66F28E5616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40E5AD1-AD2F-4807-97C2-415EAA21B4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419040" y="2666880"/>
            <a:ext cx="8191440" cy="424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5BB4D7-3183-4439-987E-7B4CE40B36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7092B7-4C8E-44E0-B9DF-076A2704B60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30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2955960" y="419724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0E4EF9-6FCE-46AC-B9B4-CD1ACEC8EF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684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2955960" y="4038120"/>
            <a:ext cx="237960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6840" y="4197240"/>
            <a:ext cx="4876920" cy="145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 fontScale="53000"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6DF246-884A-45DA-B7E4-A0020D92624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0" name="" descr=""/>
          <p:cNvPicPr/>
          <p:nvPr/>
        </p:nvPicPr>
        <p:blipFill>
          <a:blip r:embed="rId2"/>
          <a:stretch/>
        </p:blipFill>
        <p:spPr>
          <a:xfrm>
            <a:off x="0" y="0"/>
            <a:ext cx="9144000" cy="1000080"/>
          </a:xfrm>
          <a:prstGeom prst="rect">
            <a:avLst/>
          </a:prstGeom>
          <a:ln w="0">
            <a:noFill/>
          </a:ln>
        </p:spPr>
      </p:pic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60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-228600">
              <a:spcBef>
                <a:spcPts val="601"/>
              </a:spcBef>
              <a:buClr>
                <a:srgbClr val="ff6600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3" marL="1600200" indent="-228600">
              <a:spcBef>
                <a:spcPts val="601"/>
              </a:spcBef>
              <a:buClr>
                <a:srgbClr val="382873"/>
              </a:buClr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4" marL="2057400" indent="-228600">
              <a:spcBef>
                <a:spcPts val="601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5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6" marL="2057400" indent="-228600">
              <a:spcBef>
                <a:spcPts val="601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dt" idx="1"/>
          </p:nvPr>
        </p:nvSpPr>
        <p:spPr>
          <a:xfrm>
            <a:off x="151920" y="6477120"/>
            <a:ext cx="205740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E12C1A-93A1-4C1D-BF11-EF18AB249203}" type="datetime5"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Jul 28, 2026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ftr" idx="2"/>
          </p:nvPr>
        </p:nvSpPr>
        <p:spPr>
          <a:xfrm>
            <a:off x="2286000" y="6552720"/>
            <a:ext cx="4952880" cy="2286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5"/>
          <p:cNvSpPr>
            <a:spLocks noGrp="1"/>
          </p:cNvSpPr>
          <p:nvPr>
            <p:ph type="sldNum" idx="3"/>
          </p:nvPr>
        </p:nvSpPr>
        <p:spPr>
          <a:xfrm>
            <a:off x="7467480" y="6477120"/>
            <a:ext cx="1447920" cy="304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ca5100"/>
                </a:solidFill>
                <a:latin typeface="Century Gothic"/>
                <a:ea typeface="Arial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# </a:t>
            </a:r>
            <a:fld id="{A6E07799-C6B5-411A-80B1-A924EEA2E5E2}" type="slidenum">
              <a:rPr b="0" lang="en-US" sz="1200" spc="-1" strike="noStrike">
                <a:solidFill>
                  <a:srgbClr val="ca5100"/>
                </a:solidFill>
                <a:latin typeface="Century Gothic"/>
                <a:ea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"/>
          <p:cNvSpPr/>
          <p:nvPr/>
        </p:nvSpPr>
        <p:spPr>
          <a:xfrm flipV="1">
            <a:off x="76320" y="6467040"/>
            <a:ext cx="8991360" cy="9720"/>
          </a:xfrm>
          <a:prstGeom prst="line">
            <a:avLst/>
          </a:prstGeom>
          <a:ln cap="sq" w="25560">
            <a:solidFill>
              <a:srgbClr val="96969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</a:rPr>
              <a:t>Click to edit the title text format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4" name=""/>
          <p:cNvSpPr/>
          <p:nvPr/>
        </p:nvSpPr>
        <p:spPr>
          <a:xfrm>
            <a:off x="152280" y="6553080"/>
            <a:ext cx="8839440" cy="1828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0" bIns="0" anchor="t">
            <a:spAutoFit/>
          </a:bodyPr>
          <a:p>
            <a:pPr algn="ctr"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ca5100"/>
                </a:solidFill>
                <a:latin typeface="Century Gothic"/>
              </a:rPr>
              <a:t>Copyright © 2006, Zend Technologies Inc.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Click to edit the outline text format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econd Outline Leve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914400" algn="ctr">
              <a:spcBef>
                <a:spcPts val="451"/>
              </a:spcBef>
              <a:buClr>
                <a:srgbClr val="ff6600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Third Outline Level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3" marL="1371600" algn="ctr">
              <a:spcBef>
                <a:spcPts val="400"/>
              </a:spcBef>
              <a:buClr>
                <a:srgbClr val="382873"/>
              </a:buClr>
              <a:buFont typeface="Century Gothic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our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4" marL="1828800" algn="ctr">
              <a:spcBef>
                <a:spcPts val="400"/>
              </a:spcBef>
              <a:buClr>
                <a:srgbClr val="382873"/>
              </a:buClr>
              <a:buSzPct val="90000"/>
              <a:buFont typeface="Wingdings" charset="2"/>
              <a:buChar char="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Fif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5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ix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lvl="6" marL="1828800">
              <a:spcBef>
                <a:spcPts val="400"/>
              </a:spcBef>
              <a:buClr>
                <a:srgbClr val="333300"/>
              </a:buClr>
              <a:buSzPct val="9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52d69"/>
                </a:solidFill>
                <a:latin typeface="Century Gothic"/>
              </a:rPr>
              <a:t>Seventh Outline Level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hyperlink" Target="http://framework.zend.com/" TargetMode="External"/><Relationship Id="rId2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4.pn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hyperlink" Target="http://localhost/foo/dosomething/param1/value1/param2/value2" TargetMode="External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image" Target="../media/image7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4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troducing: Zend Framework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 type="subTitle"/>
          </p:nvPr>
        </p:nvSpPr>
        <p:spPr>
          <a:xfrm>
            <a:off x="456840" y="4038120"/>
            <a:ext cx="487692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52d69"/>
                </a:solidFill>
                <a:latin typeface="Century Gothic"/>
              </a:rPr>
              <a:t>John Coggeshall</a:t>
            </a:r>
            <a:endParaRPr b="1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the Gr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achieve the grail of extreme simplic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things should be simple, complex things should be possible”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e-at-will architec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shouldn’t be forced into buying the whole pizza just for a slic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Use individual components (controller/model) without being forced to use everything (your own template/view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figuration-l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e framework should be plug-and-go, no configuration files necessar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2" marL="114300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4A2299-DD33-4B58-9757-E21FD7B0D0F8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F4707A-2362-44F8-A3AA-AD387D802C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 Framework from 10,000 feet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57200" y="1282680"/>
            <a:ext cx="7772400" cy="50738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B613C2E-0517-4E9D-AA9C-1B085B8D8311}" type="slidenum">
              <a:t>11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03B447A-6F74-4D0E-ADEF-93B5C3677F2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mpletely PHP-5 focus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PHP 5.0.4 or later for near futur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s full advantage of the PHP exception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stants are all at the class-lev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 functions in global namesp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2 / SPL technologies fully utilized where it makes s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lack magic __magic() functions used very sparse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866597-B7B7-45FD-9581-FBBE778C76F3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9D72FB7-43C2-4892-ACB0-C8E20E95C8F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review Relea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 1.2 is the latest preview release of the Framework including many immediately useful tools such as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basic MVC framework for application desig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PDO-based database lay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Feed (RSS, Atom) inges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 HTTP cli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put data filter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Json support for AJA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DF generation and manipulat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PC / Web service suppor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d more!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93618E-E622-4200-A9E8-400168E2C179}" type="slidenum">
              <a:t>1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32079C5-832B-4DC6-A3A1-B3E4ABFCE3D3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"/>
          <p:cNvSpPr/>
          <p:nvPr/>
        </p:nvSpPr>
        <p:spPr>
          <a:xfrm>
            <a:off x="1143000" y="4425480"/>
            <a:ext cx="6937200" cy="33732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$ svn checkout http://framework.zend.com/svn/framework/trunk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09" name="PlaceHolder 1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You can either get the framework preview release or check out the latest repository vers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eview Release: </a:t>
            </a:r>
            <a:r>
              <a:rPr b="1" lang="en-US" sz="24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framework.zend.com/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pository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5F043A-CED8-4BE4-9C82-FC6EF41A01DE}" type="slidenum">
              <a:t>1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A19D145-BFDC-47D0-8CB9-700D4F7694E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Installing Zend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nstalling the framework is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very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easy, just modify your include_path to include the library/ director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php.ini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rom .htacces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113" name=""/>
          <p:cNvSpPr/>
          <p:nvPr/>
        </p:nvSpPr>
        <p:spPr>
          <a:xfrm>
            <a:off x="1240920" y="3740760"/>
            <a:ext cx="63543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include_path=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14" name=""/>
          <p:cNvSpPr/>
          <p:nvPr/>
        </p:nvSpPr>
        <p:spPr>
          <a:xfrm>
            <a:off x="1264320" y="5036040"/>
            <a:ext cx="7349760" cy="824040"/>
          </a:xfrm>
          <a:prstGeom prst="rect">
            <a:avLst/>
          </a:prstGeom>
          <a:solidFill>
            <a:srgbClr val="969696"/>
          </a:solidFill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php_value include_path “.:/usr/local/lib/php:/usr/local/lib/ZendFramework”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Arial"/>
                <a:ea typeface="Arial"/>
              </a:rPr>
              <a:t>…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CA6881-C8C7-4B85-98B3-1CD7F0F697BA}" type="slidenum">
              <a:t>1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155BE74-99EF-4C67-A9A0-1D529509457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MVC Pattern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VC, or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M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del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V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iew </a:t>
            </a:r>
            <a:r>
              <a:rPr b="0" lang="en-US" sz="2400" spc="-1" strike="noStrike">
                <a:solidFill>
                  <a:srgbClr val="052d69"/>
                </a:solidFill>
                <a:latin typeface="Century Gothic"/>
              </a:rPr>
              <a:t>C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ntroller pattern is a powerful technique for developing user interfac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Originally was conceived for client-side GUI applications and adopted to the web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provides a simplistic MVC mode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AA2A31-7671-48EE-ADAB-C0EB346A9796}" type="slidenum">
              <a:t>1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8CE98547-AE32-4207-A05B-FA6F65BB541C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Example Controll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18" name="PlaceHolder 2"/>
          <p:cNvSpPr>
            <a:spLocks noGrp="1"/>
          </p:cNvSpPr>
          <p:nvPr>
            <p:ph/>
          </p:nvPr>
        </p:nvSpPr>
        <p:spPr>
          <a:xfrm>
            <a:off x="609480" y="41907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: indexAction() is declared abstract in Zend_Controller_Action, and therefore must be defined in any Action/Page controll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6623280" cy="26784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B0CCF5-8100-4104-B409-B0D6634269E2}" type="slidenum">
              <a:t>1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8E713BE-9D8B-4DBB-89FB-9583DA44B4E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Passing Paramet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yond $_GET/$_POST you can also pass parameters to a specific controller action by appending them to the URL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00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 u="sng">
                <a:solidFill>
                  <a:srgbClr val="999933"/>
                </a:solidFill>
                <a:uFillTx/>
                <a:latin typeface="Century Gothic"/>
                <a:hlinkClick r:id="rId1"/>
              </a:rPr>
              <a:t>http://localhost/foo/dosomething/param1/value1/param2/value2</a:t>
            </a:r>
            <a:endParaRPr b="0" lang="en-US" sz="16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arameters can be accessed from within the action by nam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Param(&lt;key&gt; [, &lt;default value&gt;]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getAllParams(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C40E6B-5695-43E8-8B92-59609AE3C2A3}" type="slidenum">
              <a:t>1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8816B8B-6F3A-4FC9-BCB1-0F03F37ACAB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Dealing with 404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404 errors are no longer the responsibility of Apache per-se, and are more likely to result in a ‘Class not found’ / ‘Method not found’ exception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 deal with these Zend Framework provides two metho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of a controller not found, the IndexController::noRoute() method will be called instea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 the event a controller action is not defined, it is the responsibility of the controller to implement safeguards (i.e. __call() which traps bad action calls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DC7AF1-7026-463A-A8B3-A1F5932E93AC}" type="slidenum">
              <a:t>1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25D4CA7-54D7-46FC-AC02-F5EE2F51E6F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400" spc="-1" strike="noStrike">
                <a:solidFill>
                  <a:srgbClr val="ffffff"/>
                </a:solidFill>
                <a:latin typeface="Century Gothic"/>
              </a:rPr>
              <a:t>Welcome</a:t>
            </a:r>
            <a:endParaRPr b="0" lang="en-US" sz="34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oday I’ll be introducing you to the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at it i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y we’re doing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use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Where it’s go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How to be a part of i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085583-8EC9-4C65-A5EE-971FC90434A8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69805F5-06B9-440D-A78E-7B96BCB7F395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haining Controller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Controllers can be chained together to either break business logic out into components, or to otherwise redirect the u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forward(&lt;controller_name&gt; [, &lt;parameters&gt;]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arameters are a series of key/value pair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Controller Chaining does not occur until the current action is complete, to immediately forward you must return from the current action after calling _forward(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warding does not cause a refresh on the client, to physically refresh the brows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$this-&gt;_redirect(&lt;url&gt;);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EE1185-46DE-4EC5-B212-4C2A9C118F3C}" type="slidenum">
              <a:t>2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EBC6964-E639-4338-BEAC-2AE5B209DAC0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Final thoughts on MVC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	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the pattern dictates three individual class types, they are as conceptual as functiona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instance a “model” or “view” isn’t absolutely necessary to gain most of the benefit of MVC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erform queries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ou can always print output from a controller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though not necessary, they are never the less recommended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5B9DEF-F4FD-4041-AE47-4BA42C734E63}" type="slidenum">
              <a:t>2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3F3DEBF-4BAA-4255-8E4E-C3A87357CE1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Input Filtering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curity is a primary concern in Zend Framework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s such, we provide facilities to clean and manage untrusted data in your applications via Zend_InputFilter and Zend_Filter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Provides a number of methods for filtering data against many common data types (digits, alphanumeric, alpha, phone, etc.)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14646-B6CC-4091-9CA6-470A96A0644A}" type="slidenum">
              <a:t>2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9C45B61-2926-443E-81EF-7B9C6DBAD65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InputFilter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/>
          </p:nvPr>
        </p:nvSpPr>
        <p:spPr>
          <a:xfrm>
            <a:off x="609480" y="1371240"/>
            <a:ext cx="7772400" cy="1066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ith Input Filter you can both test data types and retrieve filtered data easi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990720" y="2357280"/>
            <a:ext cx="7162560" cy="2824200"/>
          </a:xfrm>
          <a:prstGeom prst="rect">
            <a:avLst/>
          </a:prstGeom>
          <a:ln w="0">
            <a:noFill/>
          </a:ln>
        </p:spPr>
      </p:pic>
      <p:sp>
        <p:nvSpPr>
          <p:cNvPr id="134" name=""/>
          <p:cNvSpPr/>
          <p:nvPr/>
        </p:nvSpPr>
        <p:spPr>
          <a:xfrm>
            <a:off x="609480" y="5334120"/>
            <a:ext cx="7772400" cy="1066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Note, by default the source of the data and all of it’s references are destroyed when filtere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7D0C3C-8264-493B-AD54-1405C5BA5204}" type="slidenum">
              <a:t>2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1131A00-F174-4BDD-88EE-4D619C3D674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Mail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s building and sending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IME types and multipart e-mail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multiple transports and persistent connections automaticall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upports large file attachments via the streams API improving performan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22AC07-D52F-41A8-96E6-B1412AA22393}" type="slidenum">
              <a:t>2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BCCB478-53D7-4C46-A7D3-A17885B60451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Sending HTML mail is now </a:t>
            </a:r>
            <a:r>
              <a:rPr b="1" lang="en-US" sz="3000" spc="-1" strike="noStrike">
                <a:solidFill>
                  <a:srgbClr val="ffffff"/>
                </a:solidFill>
                <a:latin typeface="Century Gothic"/>
              </a:rPr>
              <a:t>really</a:t>
            </a: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 eas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304920" y="1143000"/>
            <a:ext cx="8458200" cy="512604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B15361-9990-457F-B23E-30E520553FB6}" type="slidenum">
              <a:t>26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9B8D90E-C840-4191-9D93-1AA2C666646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HP 5 implementation of the popular Lucene search engine from the Java world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implified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equires no special PHP extension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35880" indent="-3358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ully compatible with the binary index format of Java Lucene 1.4 and abov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BD0A5F-8AEA-476E-AA3A-2AC85EEE5A0F}" type="slidenum">
              <a:t>2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409FC4F-7EF2-44AB-A2A4-5020FDB1FD4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Zend_Search Features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2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7242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 fontScale="96000"/>
          </a:bodyPr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anked Searching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est results always firs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Query types: phrase, wildcard, proximit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Search by field (Author, title, body, etc.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29040" indent="-32904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Robust, and simple API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One-method intelligent searches against indexes, or complex OO queries if desired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13160" indent="-27432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multiple document types, with different field requirement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1BD776-BF8F-46C7-A24B-446BA9DE1676}" type="slidenum">
              <a:t>2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2A31676-D302-4D17-B367-4CCCDB27856B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Using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Using Zend Search is very easy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pic>
        <p:nvPicPr>
          <p:cNvPr id="145" name="" descr=""/>
          <p:cNvPicPr/>
          <p:nvPr/>
        </p:nvPicPr>
        <p:blipFill>
          <a:blip r:embed="rId1"/>
          <a:stretch/>
        </p:blipFill>
        <p:spPr>
          <a:xfrm>
            <a:off x="457200" y="2286000"/>
            <a:ext cx="8483760" cy="2762280"/>
          </a:xfrm>
          <a:prstGeom prst="rect">
            <a:avLst/>
          </a:prstGeom>
          <a:ln w="0">
            <a:noFill/>
          </a:ln>
        </p:spPr>
      </p:pic>
      <p:sp>
        <p:nvSpPr>
          <p:cNvPr id="146" name=""/>
          <p:cNvSpPr/>
          <p:nvPr/>
        </p:nvSpPr>
        <p:spPr>
          <a:xfrm>
            <a:off x="609480" y="5257800"/>
            <a:ext cx="777240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60000"/>
          </a:bodyPr>
          <a:p>
            <a:pPr marL="205560" indent="-205560">
              <a:lnSpc>
                <a:spcPct val="10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search engine also boasts a parser for google-like searching: zend php -jav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3B69E-B6B5-47EF-AF79-E36F99DEB94D}" type="slidenum">
              <a:t>2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A2E8F97-2B01-42C7-ABA0-53D7E3981E5E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etting Starte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.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modular collection of PHP classes based on PHP 5 to simplify common task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tarting point for you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demonstration of PHP 5 best practice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smaller component of the PHP Collaboration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isn’t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…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free-reign open source projec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 relig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43B3B6-8EE6-4952-B036-4966485A7716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8D21E0F-498C-4442-A604-15D91E9F01A8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Adding documents to the index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pic>
        <p:nvPicPr>
          <p:cNvPr id="148" name="" descr=""/>
          <p:cNvPicPr/>
          <p:nvPr/>
        </p:nvPicPr>
        <p:blipFill>
          <a:blip r:embed="rId1"/>
          <a:stretch/>
        </p:blipFill>
        <p:spPr>
          <a:xfrm>
            <a:off x="990720" y="1041480"/>
            <a:ext cx="6945120" cy="535932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3D386B-4DB3-47EE-A237-D946D141DB99}" type="slidenum">
              <a:t>30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7EB6B61-ABDB-47BA-8185-87DFE0B36D2F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Cool things about Zend_Search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150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he Lucene search engine allows you to index multiple document types in a single index, each with different index field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ndex Individual documents with different searchable criterion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I.e. Index code samples by functions used, while articles by title, author, and keywords in the same index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Because it is 100% compatible with Lucene 1.4+, it is compatible with all pre-created index fil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C8FF2E-3127-4FA3-9A21-856CF2A1D31A}" type="slidenum">
              <a:t>3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5F71A8-56FA-453F-BBCE-35CF36691C4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title"/>
          </p:nvPr>
        </p:nvSpPr>
        <p:spPr>
          <a:xfrm>
            <a:off x="419040" y="2666880"/>
            <a:ext cx="8191440" cy="914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spcBef>
                <a:spcPts val="18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ffff"/>
                </a:solidFill>
                <a:latin typeface="Century Gothic"/>
                <a:ea typeface="Arial"/>
              </a:rPr>
              <a:t>Questions?</a:t>
            </a:r>
            <a:endParaRPr b="0" lang="en-US" sz="3600" spc="-1" strike="noStrike">
              <a:solidFill>
                <a:srgbClr val="ffffff"/>
              </a:solidFill>
              <a:latin typeface="Century Gothic"/>
            </a:endParaRPr>
          </a:p>
        </p:txBody>
      </p:sp>
    </p:spTree>
  </p:cSld>
  <p:transition>
    <p:wipe dir="l"/>
  </p:transition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Goals of the Framework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fundamentally….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n industry-leading framework for PHP application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partnership between many companies already experienced in PHP Framework development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499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52d69"/>
                </a:solidFill>
                <a:latin typeface="Century Gothic"/>
              </a:rPr>
              <a:t>Zend Framework strives to be technically…</a:t>
            </a:r>
            <a:endParaRPr b="1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source of high-quality, PHP 5 / E_STRICT compatible application component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Completely PHP 5 powered, </a:t>
            </a:r>
            <a:r>
              <a:rPr b="0" lang="en-US" sz="1800" spc="-1" strike="noStrike" u="sng">
                <a:solidFill>
                  <a:srgbClr val="052d69"/>
                </a:solidFill>
                <a:uFillTx/>
                <a:latin typeface="Century Gothic"/>
              </a:rPr>
              <a:t>requiring</a:t>
            </a: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 as few external PHP extensions as necessary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A minimal object hierarchy to achieve the necessary goals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51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52d69"/>
                </a:solidFill>
                <a:latin typeface="Century Gothic"/>
              </a:rPr>
              <a:t>Modular design allowing developers to use the framework at will, as they see fit.</a:t>
            </a: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AD608A-2337-4F68-A449-1C3B929209C8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7CE18C8F-C605-4CDB-86B2-571AF7E6B879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hy Yet another Framework?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Keep PHP competitive with other technologie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.NET, Java, etc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Provide “clean” IP to enable commercial u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Real companies can’t just “borrow” code from the Internet without clear licensing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“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Extreme Simplicity”: It may not be simple technically, but using it should be.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Take full advantage of PHP 5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C0FC51-69FB-4831-A198-2B57FB66B51B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0BC9554-69FC-43B8-BB17-9F1230199A12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Framework License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609480" y="1600200"/>
            <a:ext cx="7772400" cy="4572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licensed using a PHP/BSD style licens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nyone can use it, for anything, no strings attached – period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Along with the license of the framework itself, contributors must sign a Contributor License Agreement (CLA)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C0F58-002D-45C3-ADFF-AB2AB6E50EA1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8EEB3FC-A32C-4855-A1C5-22660A018F77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re’s no such thing as a free… 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y spend so much time and effort on something, just to give it away?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Yes, we’re still interested in making mone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For the continued success of PHP it must be a collaboration beyond OSS hacker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hrough the PHP Collaboration project, and projects like Zend Framework, we can leverage the knowledge of some of the best in the industry in the benefit of PHP as a whole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As you might expect, Zend benefits with PH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1A780F-0EF9-4A5F-85B5-BFD54CCF1676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1E80BEF-990E-4BB2-A132-61B2E5DABFEA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We eat our own dog food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Zend Framework is more than unit-tested, it is used in real-life production environments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Gives us the ability to test performance, ease of use, etc. in a practical environment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Zend and its partners are already using the preview release of the Framework to speed development of their applications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lnSpc>
                <a:spcPct val="90000"/>
              </a:lnSpc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Both the Framework homepage (framework.zend.com) and our new Developer’s Zone (devzone.zend.com) use the preview release of Framework as their foundation.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0">
              <a:lnSpc>
                <a:spcPct val="90000"/>
              </a:lnSpc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C6B5B8-6E72-4918-A6B3-71E997D41CAA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34C39AF-A31B-44DC-905A-60D06E57B8D6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152280" y="380520"/>
            <a:ext cx="7315200" cy="30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000" spc="-1" strike="noStrike">
                <a:solidFill>
                  <a:srgbClr val="ffffff"/>
                </a:solidFill>
                <a:latin typeface="Century Gothic"/>
              </a:rPr>
              <a:t>The grail: Extreme Simplicity</a:t>
            </a:r>
            <a:endParaRPr b="0" lang="en-US" sz="3000" spc="-1" strike="noStrike">
              <a:solidFill>
                <a:srgbClr val="ffffff"/>
              </a:solidFill>
              <a:latin typeface="Century Gothic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609480" y="1599840"/>
            <a:ext cx="7772400" cy="41814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Many of PHP 5’s most exciting new technologies are </a:t>
            </a:r>
            <a:r>
              <a:rPr b="1" lang="en-US" sz="2400" spc="-1" strike="noStrike" u="sng">
                <a:solidFill>
                  <a:srgbClr val="052d69"/>
                </a:solidFill>
                <a:uFillTx/>
                <a:latin typeface="Century Gothic"/>
              </a:rPr>
              <a:t>really simple</a:t>
            </a: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 to use: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imple XML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SOAP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lvl="1" marL="743040" indent="-285840">
              <a:spcBef>
                <a:spcPts val="499"/>
              </a:spcBef>
              <a:buClr>
                <a:srgbClr val="ff6600"/>
              </a:buClr>
              <a:buSzPct val="110000"/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52d69"/>
                </a:solidFill>
                <a:latin typeface="Century Gothic"/>
              </a:rPr>
              <a:t>Tidy</a:t>
            </a:r>
            <a:endParaRPr b="0" lang="en-US" sz="20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-343080">
              <a:spcBef>
                <a:spcPts val="601"/>
              </a:spcBef>
              <a:buClr>
                <a:srgbClr val="ea6e2e"/>
              </a:buClr>
              <a:buSzPct val="120000"/>
              <a:buFont typeface="Century Gothic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52d69"/>
                </a:solidFill>
                <a:latin typeface="Century Gothic"/>
              </a:rPr>
              <a:t>While the underlying technologies may be extremely complex, the end-user APIs are reduced to an extremely simple interface</a:t>
            </a: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2400" spc="-1" strike="noStrike">
              <a:solidFill>
                <a:srgbClr val="052d69"/>
              </a:solidFill>
              <a:latin typeface="Century Gothic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DF59FE-0C13-4E21-AF7B-092835D17FB1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4A8C5B4-9C20-40F3-8E67-B62DD4B3BFC4}" type="datetime5">
              <a:rPr lang="en-US"/>
              <a:t>Jul 28, 2026</a:t>
            </a:fld>
          </a:p>
        </p:txBody>
      </p:sp>
    </p:spTree>
  </p:cSld>
  <p:transition>
    <p:wipe dir="l"/>
  </p:transition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3-29T05:54:42Z</dcterms:created>
  <dc:creator>John Coggeshall</dc:creator>
  <dc:description/>
  <dc:language>en-US</dc:language>
  <cp:lastModifiedBy>John Coggeshall</cp:lastModifiedBy>
  <dcterms:modified xsi:type="dcterms:W3CDTF">2006-06-29T12:19:55Z</dcterms:modified>
  <cp:revision>15</cp:revision>
  <dc:subject/>
  <dc:title>Zend Framework</dc:title>
</cp:coreProperties>
</file>