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86775"/>
        <c:axId val="85956455"/>
      </c:barChart>
      <c:catAx>
        <c:axId val="37786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56455"/>
        <c:crosses val="autoZero"/>
        <c:auto val="1"/>
        <c:lblAlgn val="ctr"/>
        <c:lblOffset val="100"/>
        <c:noMultiLvlLbl val="0"/>
      </c:catAx>
      <c:valAx>
        <c:axId val="85956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86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704-4E89-4C4E-8EA3-535FAFB2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009-E78C-4D9A-BD62-92A617A4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295-4A3D-40AD-8AC0-F6173343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962-2716-46CD-8681-1853A8BD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9C7-DCBA-43B6-B74A-BD02206F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07B-C6C5-49E7-B461-84A1B2D5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640-6386-464A-8AEB-416B1179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3E8-34BF-4217-BCFE-93DA5B2F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1EC3-97C8-4E40-B565-673F15EF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D8B-83C4-4B16-844E-F1DF2BE3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4D4-BD45-45E4-86A2-EF54BAB7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28C-E45D-4A66-9690-0390D737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98595-7BF2-4021-AEC2-D94CBDC80D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