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330202"/>
        <c:axId val="74978446"/>
      </c:barChart>
      <c:catAx>
        <c:axId val="423302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978446"/>
        <c:crosses val="autoZero"/>
        <c:auto val="1"/>
        <c:lblAlgn val="ctr"/>
        <c:lblOffset val="100"/>
        <c:noMultiLvlLbl val="0"/>
      </c:catAx>
      <c:valAx>
        <c:axId val="749784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3302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0634-A64A-4D81-8B87-C3AF90D0F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1C15-F2D9-4A18-8820-B9F7A580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101F-9786-40A5-846A-6526AA120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F0C8-A18D-4233-A9D3-B8B00C93A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E9A6-DB1A-4FE8-8F9E-51D65EEC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E3A2-ED21-4959-9A31-B87B6DB0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64DA-D632-4F5D-AD48-31B43087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4C42-331B-4C4D-B24D-7A8ABCDE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9C92-F139-440F-9BB7-48DCECFF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5E70-9D4D-4B5E-B00E-37B6F4C9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4F3E-D5D8-4E6C-9E69-4BC4FF1F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212D-95C1-49D7-9A7A-474072D6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5082B9-F7CD-4471-B346-C78635D795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