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55527"/>
        <c:axId val="2202814"/>
      </c:barChart>
      <c:catAx>
        <c:axId val="84455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814"/>
        <c:crosses val="autoZero"/>
        <c:auto val="1"/>
        <c:lblAlgn val="ctr"/>
        <c:lblOffset val="100"/>
        <c:noMultiLvlLbl val="0"/>
      </c:catAx>
      <c:valAx>
        <c:axId val="2202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55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772-D44B-4994-99EB-BC5F7292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11B-ED12-4270-B249-25BF3AE2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ADA-252A-4F32-BF3D-6423911B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837-1610-4E56-B540-EE2B1888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EA0-E76D-4BE9-8D31-01D91936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7BA-F1FC-4B93-BBA3-34374453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6D7-C456-4FE6-A190-D091775D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B4E-86A5-441B-BDB1-B32C5FBB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32E-40D7-40DE-BDF4-329494E0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780-7181-400F-A390-7D09AB96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1E5-DA68-42A1-8B2E-3735936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363-FF28-4FB6-89AC-AEBA18F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510BE-C687-4AB1-AA58-A3C45609FF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