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10015"/>
        <c:axId val="4639311"/>
      </c:barChart>
      <c:catAx>
        <c:axId val="49710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9311"/>
        <c:crosses val="autoZero"/>
        <c:auto val="1"/>
        <c:lblAlgn val="ctr"/>
        <c:lblOffset val="100"/>
        <c:noMultiLvlLbl val="0"/>
      </c:catAx>
      <c:valAx>
        <c:axId val="4639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10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DE9-A326-4A85-B5ED-4288B5C7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59C-BBFB-4597-A6AA-55351334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7835-AB4E-4D9F-8570-1524FD72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093-C82F-4CCA-BED9-89CFCAC5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18C6-88D9-4F73-BE98-924701A6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465-AFAC-49E0-868E-0291F2BE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2DA-BB7A-4C4C-BB31-D755A664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3F0-D22F-4A8D-A66F-970C10C7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080-FC90-4734-9A92-EA84359D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42E-4A00-47EF-9E52-80613D91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C5C0-D88D-4BA5-B571-465350FF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1CC7-BDE5-46EA-B617-65038835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2C76D-5B21-422E-B801-52C59EA026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