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20300"/>
        <c:axId val="56952255"/>
      </c:barChart>
      <c:catAx>
        <c:axId val="71020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52255"/>
        <c:crosses val="autoZero"/>
        <c:auto val="1"/>
        <c:lblAlgn val="ctr"/>
        <c:lblOffset val="100"/>
        <c:noMultiLvlLbl val="0"/>
      </c:catAx>
      <c:valAx>
        <c:axId val="56952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20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916-286C-4E22-91F2-244E1A9C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172-EDFB-4B06-A84C-0F3BB20E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CAB-CE31-4DFB-9689-EEB0A945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E7C-8E62-48DD-A915-513E3664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14A-2B30-43D6-8399-19AF86E7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B31-8D78-4375-B654-86B94333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5A2-8F97-4514-8BB0-94F26723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054-2F8F-4859-9329-A472D5D5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D4A-83AE-428A-A606-1304722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E34-B48E-4F05-B6DF-2E05C5E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8AC-9129-41D3-BEDB-6652895F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020-DF18-4A9F-B28A-AC1AD801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F133E-EBA7-4E70-8143-12DA6C634D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