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38810"/>
        <c:axId val="66974855"/>
      </c:barChart>
      <c:catAx>
        <c:axId val="865388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74855"/>
        <c:crosses val="autoZero"/>
        <c:auto val="1"/>
        <c:lblAlgn val="ctr"/>
        <c:lblOffset val="100"/>
        <c:noMultiLvlLbl val="0"/>
      </c:catAx>
      <c:valAx>
        <c:axId val="66974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388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70D-70F6-4BBD-9949-CF7F047C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29E5-F448-46AE-B3BC-22EE3EEE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61D0-1E8B-43A1-A511-AEE1E7E6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6ACF-EC55-42EC-A187-F0E62575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65D-07A1-4E3E-965A-2F986200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FF6-D69D-4C89-85BD-8B05AC42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F52-E259-4792-B2F9-154E3CF7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823C-6AA1-4AAA-8117-C5EC2F54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6E7-FFFE-4494-96EB-9F33182C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A38-E1B4-4372-AA4D-DAAAC10B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0FE0-9CDD-4D29-9A81-CFCDE2A2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464-820E-4827-AA5C-C1231F9E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43057-04C6-4F27-A359-898EB3F16A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