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37270"/>
        <c:axId val="95096430"/>
      </c:barChart>
      <c:catAx>
        <c:axId val="69637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96430"/>
        <c:crosses val="autoZero"/>
        <c:auto val="1"/>
        <c:lblAlgn val="ctr"/>
        <c:lblOffset val="100"/>
        <c:noMultiLvlLbl val="0"/>
      </c:catAx>
      <c:valAx>
        <c:axId val="95096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37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5B7-C475-4557-8B88-8D523B2B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F4B-736E-43FB-8458-68993015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751-45D8-4733-AF24-CE7D955B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326-5B04-46C3-AD08-10F39B02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BFE-E100-44E9-94D1-B7BD2800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650-0CF1-41F6-A7E2-C485B202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243-6CD3-416F-B423-44F96D06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1FF-A1E6-444A-ABC8-340F4DF3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900-4EE4-46B5-8627-828248A2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91C-D588-42F1-8CD4-F88C48B5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7DD-7624-408E-BEB8-A5E87BA4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9CE-3519-41BB-B425-14D8594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4E436-209F-4EFF-9D3F-2EAA60A06C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