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23727"/>
        <c:axId val="69273920"/>
      </c:barChart>
      <c:catAx>
        <c:axId val="15123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73920"/>
        <c:crosses val="autoZero"/>
        <c:auto val="1"/>
        <c:lblAlgn val="ctr"/>
        <c:lblOffset val="100"/>
        <c:noMultiLvlLbl val="0"/>
      </c:catAx>
      <c:valAx>
        <c:axId val="69273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23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305-95EB-4A1B-B1DC-F9493843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8D9-5839-416A-B634-0EEE5DF4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E9A-AEF2-4BAE-8AD4-45505D66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AE1-2FD0-48A3-8613-99B6CEF1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DBA-9F07-47A8-9804-F49E9AC3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5B8-70D6-4D8C-8AF3-6BDD8D43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CE2-85F8-462C-9B3B-F857E264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496-FFD4-45F9-A8FA-4EEDA4E2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4A0-C0AB-4358-975A-AA2E4AFE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F21-6F16-41C8-8929-81CE79E4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6B7-846C-4D0E-8360-6AC52DB5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FF3-BC93-4922-A1C9-76890946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CE6E2-B926-44FA-A3E4-331175CB5C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