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81042"/>
        <c:axId val="68036437"/>
      </c:barChart>
      <c:catAx>
        <c:axId val="40881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36437"/>
        <c:crosses val="autoZero"/>
        <c:auto val="1"/>
        <c:lblAlgn val="ctr"/>
        <c:lblOffset val="100"/>
        <c:noMultiLvlLbl val="0"/>
      </c:catAx>
      <c:valAx>
        <c:axId val="680364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81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D57-F3F1-4CC4-BF98-FB1DD57F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CDE-8A43-45EB-9413-9BC666A7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C5E-38A2-4492-BE73-C18D2821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40D-27A1-469A-A23D-EE61CDB4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6D3-0E38-4AFB-B3CD-14755FF5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1437-CE82-4D4E-853E-7E3A3277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0F3-76ED-4042-89B0-1080AABB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79D-796B-4849-AA95-6B327594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F63-C3B0-4977-97A0-7B742111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842-A28D-4C11-96FD-175AB01C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F92-6C8C-4B69-918B-E2714883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F42-6866-4919-A177-E7C7C4DF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6314E-5998-4F9D-A635-4895B8AEA0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