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55642"/>
        <c:axId val="96292955"/>
      </c:barChart>
      <c:catAx>
        <c:axId val="72855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92955"/>
        <c:crosses val="autoZero"/>
        <c:auto val="1"/>
        <c:lblAlgn val="ctr"/>
        <c:lblOffset val="100"/>
        <c:noMultiLvlLbl val="0"/>
      </c:catAx>
      <c:valAx>
        <c:axId val="96292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55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BBF-61F8-4283-9708-BC5D5C67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FD8-04D9-4771-B71E-39F52DE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EF8-6D17-47F9-BDEF-4DFAAC1F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26E-F23D-46CF-84F3-820F8B1A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F1B-A915-44CA-A685-A72DEE6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AF7-F227-4744-87AD-379B891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86C-E655-4806-A76F-9FD27D2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658-44DF-4C7F-B0DA-D620779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24F-21A2-4724-9754-C002E3B6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CC7-0356-4A83-B645-E032AE59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232-5C67-43BE-967C-6177E5A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250-64FD-49E8-A0C5-ADD65F9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660E-D72C-4F4B-8620-30E65E57E0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