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32822"/>
        <c:axId val="46903886"/>
      </c:barChart>
      <c:catAx>
        <c:axId val="55032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03886"/>
        <c:crosses val="autoZero"/>
        <c:auto val="1"/>
        <c:lblAlgn val="ctr"/>
        <c:lblOffset val="100"/>
        <c:noMultiLvlLbl val="0"/>
      </c:catAx>
      <c:valAx>
        <c:axId val="46903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32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A72-53D4-47DE-AA22-D3E2B541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1C6-FA1D-40FA-8972-9AC67D25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A18-FEEE-4E54-9B17-539A6D87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2E7-71B6-4B58-BBD1-4C8DB368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066-71D9-47CF-A722-77736715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C92-11D1-40F4-9AAA-57B80056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006-67D2-4A36-8CD3-97A614E4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32B-2061-469B-B120-8DD2EC3C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BC4-66EE-474A-B8E3-C0EB30A4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CE4-790D-4330-973F-AB06D1CF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A73-3B4A-4500-A043-0AE6EE37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95C-101F-4C85-BE3E-562985E3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95574-5AED-4757-8F1B-7CFF7E27A2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