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30739"/>
        <c:axId val="71206575"/>
      </c:barChart>
      <c:catAx>
        <c:axId val="40030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06575"/>
        <c:crosses val="autoZero"/>
        <c:auto val="1"/>
        <c:lblAlgn val="ctr"/>
        <c:lblOffset val="100"/>
        <c:noMultiLvlLbl val="0"/>
      </c:catAx>
      <c:valAx>
        <c:axId val="71206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30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38F-A7ED-4522-872E-1B1963E5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9D8-6594-4E90-899D-C75385C1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AEE-E63B-4BCB-A4B3-1C52AA5F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05B-70B7-4B75-826C-4BB7B8EB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135-4659-49A7-B741-CEE58104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04A-0EF0-4FBE-976C-167122D5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33C-F804-4A9B-B614-60C47573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33C-115B-4BB8-B126-2EBD8FB9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1B5-F755-4B2A-B2A1-24F258E5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A86-821D-454B-B6C0-056CABF7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66E-F218-456B-8183-47F33EFE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7D7-B320-473B-994E-50EC1A1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5FB57-D7FA-4897-B4DF-2240122AE6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