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73644"/>
        <c:axId val="15949721"/>
      </c:barChart>
      <c:catAx>
        <c:axId val="24373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9721"/>
        <c:crosses val="autoZero"/>
        <c:auto val="1"/>
        <c:lblAlgn val="ctr"/>
        <c:lblOffset val="100"/>
        <c:noMultiLvlLbl val="0"/>
      </c:catAx>
      <c:valAx>
        <c:axId val="159497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73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23A-B786-4BA3-B8E4-C98B2E51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F24-E00D-4DE9-A014-D3020AFC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B9F-D880-4894-ACDB-46470E11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7875-B680-4354-9B42-4DB3E4A2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E89-B4BE-4AA0-9E55-AFA54F50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E0C6-B888-4D63-8DA6-E0A1C5B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675-FDA2-4D5D-BC5D-56133B7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847-A5FC-48C7-A80C-A81B68ED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441B-39B5-429F-879E-118D429F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D3B-37AC-4AC3-8A53-3A73DD80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C12-B82F-423C-BB04-F5922FBD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21F-752F-4BA7-A790-F5713C8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A31F3-9D28-4BC2-B4DE-69C54B15E6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