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59242"/>
        <c:axId val="65848408"/>
      </c:barChart>
      <c:catAx>
        <c:axId val="17559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48408"/>
        <c:crosses val="autoZero"/>
        <c:auto val="1"/>
        <c:lblAlgn val="ctr"/>
        <c:lblOffset val="100"/>
        <c:noMultiLvlLbl val="0"/>
      </c:catAx>
      <c:valAx>
        <c:axId val="65848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9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6DE-3858-4D8A-85BD-7EE3A56C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19B-F10D-4BFF-B436-A622AE2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77E-6DC0-4941-8A39-9B7E5624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D30-952A-4266-A684-F8D964BB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602-8ACA-40C4-9AB0-D7972D95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BC4-4960-4366-B0D8-C301713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17D-04FD-4217-A8FD-1E1A83F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40E-8A5D-4A0F-A33C-80C7A7C6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C22-B31C-4F81-86F2-785B28F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653-2316-4233-B2F6-F508315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616-03C7-43B0-B931-40EA147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FB-6F01-467B-8C8D-ACA7609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72D30-8CBC-477A-BD57-B9175089B6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