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250778"/>
        <c:axId val="31039117"/>
      </c:barChart>
      <c:catAx>
        <c:axId val="112507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39117"/>
        <c:crosses val="autoZero"/>
        <c:auto val="1"/>
        <c:lblAlgn val="ctr"/>
        <c:lblOffset val="100"/>
        <c:noMultiLvlLbl val="0"/>
      </c:catAx>
      <c:valAx>
        <c:axId val="310391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507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4550-E2D0-4CFB-8324-A81F1DB5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3E26-8C7C-4829-BEBC-FE97A4D4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D43B-DCF3-4100-8DFF-C4FCAD3E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B02E-1B28-4E23-B7B7-A64D2E37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6D66-A176-4037-86B8-92AC733B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C425-A678-4E3F-ACB2-10A19BBC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5DC3-A503-4026-BD13-4D6689E6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68B0-C6EA-4E84-838E-CAC97423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B488-84F1-40C5-8FF3-DCA2265E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C5E6-0A3F-43A7-AB02-D3311881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7B54-FBE1-45D9-83EC-7348E44F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A403-F76E-4E0C-9CA5-6C93714A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C705B-3272-4518-B2BF-CD6B79BA19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